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350-0FA4-434A-ACA0-4487C6E5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421-0109-448E-8E52-7E58211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BDC-242F-4238-966B-0A8AF5A8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221-BD0E-4A9B-90B8-03A18CD7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4BB0-7F21-4E5A-9ED9-587104E8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CDE-5560-461E-9A52-B10BE26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9A79-F05A-4D3E-948D-0910D05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02BC-8D3A-4B73-A7C8-A28D5FF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084-1673-4016-8718-279D2A1C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185-51CB-4710-A977-15B19C7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FBAC-E11C-4C9E-95F9-9A0ADA9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EE8-5D8E-427B-B082-322B7C6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81F-47DA-4D6A-A1EF-47DB512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50A-6AE8-4B98-A77A-72066A5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163C-6B7D-458C-B642-03911214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E338-8620-4C4D-B56C-3800503C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29E-25AE-4D93-8386-5245D884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4DA4B-289F-4EC6-AEC0-22554DB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4AC7B-63BC-4370-8A1A-08A0E97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2FAD2-B5C6-4A25-BA22-0FF0DC2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2C359-3ADE-4BD3-A271-D22D15A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E6A07-7418-4DA1-A47F-BE28A7F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520-E919-4A17-B397-03152D1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A1374-A63F-42D3-B114-28468DD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FF24E-CD7B-4C67-8998-5A8D822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FE4DF-CC88-469C-A5F8-F4145B3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F7DAF-FD9C-4FA6-97BE-CEE3296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67451-1428-4F0C-9BCD-86D447E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0211A-E822-4B9C-8D66-36D8B427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FDBD3-03EC-4119-A4AC-C536CFCD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B4EF-1E75-4F02-BD51-10552F58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0EF6-BA37-41DD-A215-FAA7AAF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1A19-ADCA-4588-893F-CF04FB7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4F9-1744-4C25-86A3-8DC5066C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CD81-B10D-41BF-8C43-A198E546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5FA5D-A8BE-49AA-853C-C48AC9E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E6AD-A122-48DA-A11C-6C176E8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13A7-BE48-41D6-A634-DA80524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0951-C635-4A2A-B4EE-B90FC85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99F9-C9BB-4D1B-805A-90997E8C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EBFE-3E2F-4901-BD4D-21154263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8AC2-8225-429D-89A4-9F0C3250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6C9F-52D1-4D7E-8AAE-EF4D120C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2050E-A1B5-4A4E-A72E-84AE19DF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209-B7E9-4760-A8F0-8B212995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957D9-CDD6-4596-889E-89B69C25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7F125-7DC6-4EB6-9996-5FEBC44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8DC82-C5FF-427C-B9B2-7477CF4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6232C-EC07-47E1-9418-6F387EA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682E9-E76C-418D-9599-77B5789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E1C68-5A6D-495E-A599-02AC1F0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594D7-3188-4ECB-BD9B-4DB2C776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44097-FAE2-4294-9818-7B7449B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9A064-51FA-40BE-BC01-2C10617F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5D007-7F38-47BF-9A00-B1D29946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5D7-BBC8-4DCC-968D-F5ECBC8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9881A-940B-49C9-B49B-E60CBC21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6040C-8609-41E8-BCA5-EB4DC518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CB0E8-9809-4FAF-A711-D3DBC8C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582D3-B84F-40C6-9F25-F811606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7CE02-D0C0-40BA-BF8B-99A11B59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A5061-0AE8-47D7-9FE0-D9DDFB31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66CDF-6D6A-4A81-8BB7-BED929C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794E-2188-46D9-A02B-55F86B7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ECA08-58AD-4515-859E-B9C5598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0620A-06A9-4440-A105-2B6024C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4FD-0EDE-46F9-B9F3-1B0EBE4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04BDB-D6B9-460B-841B-C282AFC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7E750-C4EE-4F6A-A7C7-556F5A0E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EF9DC-C3DB-44AC-B45A-92D9F80C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7C311-65AD-4377-A816-173F12A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1744E-EB36-424B-B165-E33E24CD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C1CC6-AB8D-4837-9486-C918EE61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01634-7DE4-47D4-8421-9C443E8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5BF0D-0BD1-4B2C-B2AE-E72E6892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E9E8F-74F0-4EE5-8759-7CE08A89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0D117-C030-4156-AAFB-117E7F4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2F7-DABC-4816-8CAB-4BC2840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C3862-21E1-4671-B6A9-DFFDFEC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7B02E-8EAB-40C8-9735-285C363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9BA61-EF00-407D-8255-7611ADC1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1FB31-DB43-44D8-AC80-4C5C80D2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D705D-CBF6-464D-B070-82004756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8F25-5389-4C09-87F3-9ECDAA06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4511-5224-40D2-BA8C-02266C2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AB2E-04C4-43F3-937B-B52DDCB9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7660B-4695-491B-B458-064B5E69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96EA-C6B7-49EB-B101-B07716DC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59D-8E63-448A-813D-DC4526D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3E56-62AD-4530-8E2D-64D7A6D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5DBDC-619A-4B7F-AFAE-05C1811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31DAA-2466-4EB7-884C-6CCAD8C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9D2E-FBAB-4361-A84E-DAEF951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CD3A-7159-4673-8988-55A27BAB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FA8D-9C12-4D6C-8D10-0C221416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CDF5-BCE4-4F6E-A39D-9D315E7B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7C5-49A2-4CA5-ABF2-2DC1014F8F5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0E00-B584-4160-93D9-44353C5C2A3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F2B4-4DC1-45ED-A38A-5B178AA3F97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F06A-974D-43DF-82D4-768222ADFE7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142-5E66-4289-9C2F-769182082B7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46B-7C5E-4534-AC1D-404BF1660CD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C33-FB6E-47D7-A754-E8864DE918F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18A4-7E0E-4EC8-916F-ADCF652996A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518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Century Schoolbook"/>
              </a:rPr>
              <a:t>TEMA 2: ALIMENTOS Y NUTRIENT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4" descr="j0217698"/>
          <p:cNvPicPr/>
          <p:nvPr/>
        </p:nvPicPr>
        <p:blipFill>
          <a:blip r:embed="rId1"/>
          <a:stretch/>
        </p:blipFill>
        <p:spPr>
          <a:xfrm>
            <a:off x="6084720" y="3357720"/>
            <a:ext cx="2521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entury Schoolbook"/>
              </a:rPr>
              <a:t>4. EL RESULTADO DE LA DIGESTIÓ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8920" y="981000"/>
            <a:ext cx="418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bsorción intestinal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aso de nutrientes desde el tubo digestivo a la sang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Intestino delgad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bsorb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nutrientes orgánicos,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debido a su gran superficie (100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entury Schoolbook"/>
              </a:rPr>
              <a:t>Gran longitud (7-8m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entury Schoolbook"/>
              </a:rPr>
              <a:t>Pliegues y vellosidades intestinale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3300"/>
                </a:solidFill>
                <a:uFillTx/>
                <a:latin typeface="Century Schoolbook"/>
              </a:rPr>
              <a:t>Intestino grues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bsorb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agua y sales mineral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. La flora intestinal (bacterias) fabrican algunas vitaminas que se asimilan en el col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932360" y="980640"/>
            <a:ext cx="3743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efecación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restos de alimentos que no han podido ser digeridos o absorbidos (HECES) son expulsados al exterior por el a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n animales la </a:t>
            </a: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CELULOSA no puede ser degradad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or ninguna enzima pero es esencial porque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Retiene agu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Estimula los movimientos del intestino (evita estreñimiento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7" descr="intestino_delgado_y_grueso940"/>
          <p:cNvPicPr/>
          <p:nvPr/>
        </p:nvPicPr>
        <p:blipFill>
          <a:blip r:embed="rId1"/>
          <a:stretch/>
        </p:blipFill>
        <p:spPr>
          <a:xfrm>
            <a:off x="4859280" y="4724280"/>
            <a:ext cx="395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e8637"/>
                </a:solidFill>
                <a:latin typeface="Century Schoolbook"/>
              </a:rPr>
              <a:t>5. LA SALUD DEL SISTEMA DIGESTIV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2 CuadroTexto"/>
          <p:cNvSpPr/>
          <p:nvPr/>
        </p:nvSpPr>
        <p:spPr>
          <a:xfrm>
            <a:off x="468360" y="1125360"/>
            <a:ext cx="316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i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ducida por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cterias de la bo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exceso dul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ujeros llegan a la pul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ta: limpiarse dientes, no consumir excesivos dulces e ir al dent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http://www.clinicaloscos.es/wp-content/uploads/2014/12/caries-dental.jpg"/>
          <p:cNvPicPr/>
          <p:nvPr/>
        </p:nvPicPr>
        <p:blipFill>
          <a:blip r:embed="rId1"/>
          <a:stretch/>
        </p:blipFill>
        <p:spPr>
          <a:xfrm>
            <a:off x="4284720" y="1052640"/>
            <a:ext cx="4174920" cy="2232000"/>
          </a:xfrm>
          <a:prstGeom prst="rect">
            <a:avLst/>
          </a:prstGeom>
          <a:ln w="0">
            <a:noFill/>
          </a:ln>
        </p:spPr>
      </p:pic>
      <p:sp>
        <p:nvSpPr>
          <p:cNvPr id="514" name="5 CuadroTexto"/>
          <p:cNvSpPr/>
          <p:nvPr/>
        </p:nvSpPr>
        <p:spPr>
          <a:xfrm>
            <a:off x="468360" y="3357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eñi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ficultad evacuar heces. Evita: vida activa y dieta rica en alimentos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7 CuadroTexto"/>
          <p:cNvSpPr/>
          <p:nvPr/>
        </p:nvSpPr>
        <p:spPr>
          <a:xfrm>
            <a:off x="539640" y="407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arr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heces muy líquidas, por infección o comidas en mal estado. Peligrosas por la pérdida de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8 CuadroTexto"/>
          <p:cNvSpPr/>
          <p:nvPr/>
        </p:nvSpPr>
        <p:spPr>
          <a:xfrm>
            <a:off x="684360" y="5084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inflama el epitelio intestinal)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úlce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heridas en la pared del estómago)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rr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uerte de las células del hígado). Se producen por un mal estilo de vida y el consumo de sustancias como el tabaco, alcohol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6. EL SISTEMA RESPIRATORIO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l sistema respiratori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s el responsable de hacer circular el aire entre el organismo y el medio externo. El aire circula po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sup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nariz, faringe y larin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inf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tráquea y pulm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8880" y="1599840"/>
            <a:ext cx="424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Recorrido del air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Nariz y boc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entrada del aire, de ahí pasa a la faringe (común con el sistema digestivo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Laringe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contiene las cuerdas vocales (vibran- sonid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Tráquea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tubo flexible con anillos de cartíla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Pulmon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en la cavidad torácica están protegidos por las costillas. Se apoyan sobre el diafragm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Bronquios-bronquiol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tubos ramificad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lveol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bolsas de paredes finas y con muchos capilares sanguíneos al final de los bronquiolos más f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0" name="Picture 8" descr="30-sistemarrespiratorio"/>
          <p:cNvPicPr/>
          <p:nvPr/>
        </p:nvPicPr>
        <p:blipFill>
          <a:blip r:embed="rId1"/>
          <a:stretch/>
        </p:blipFill>
        <p:spPr>
          <a:xfrm>
            <a:off x="1476360" y="4076640"/>
            <a:ext cx="24829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7. EL INTERCAMBIO DE GA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ntercambio de gase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entre el aire atmosférico y la sangre se realiza en los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lveol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uperficie alveolar enorme (200m2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stán rodeados de infinidad de capilar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anguíne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pared que separa el aire alveolar y l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angre es muy fin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os gases atraviesan estas paredes por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ifus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, del lugar donde está 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ás concentr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hacía el lugar en el que se encuentra 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enor concentr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OXÍGENO (aire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difusión simple → sang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2 (sangre) → difusión simple → ai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4360" y="5734080"/>
          <a:ext cx="6984720" cy="79200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28" descr="Respiratorio4F10"/>
          <p:cNvPicPr/>
          <p:nvPr/>
        </p:nvPicPr>
        <p:blipFill>
          <a:blip r:embed="rId1"/>
          <a:stretch/>
        </p:blipFill>
        <p:spPr>
          <a:xfrm>
            <a:off x="6024600" y="2060640"/>
            <a:ext cx="31194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8. LA VENTILACIÓN PULMONAR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Ventilación pulmonar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: Entrada y salida del aire de los pulmones debido al cambio de volumen de la cavidad torácic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Movimientos respiratorio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Inspiración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los músculos de las costillas y el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diafragma se contrae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y el volumen de la cavidad torácica aumenta, aumentando el volumen de los pulmones y entrando aire en su interi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Espiración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los músculos se relajan, el volumen de la cavidad torácica disminuye y el aire de los pulmones sale de forma pasiv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8" name="Picture 6" descr="Respiratorio4F7"/>
          <p:cNvPicPr/>
          <p:nvPr/>
        </p:nvPicPr>
        <p:blipFill>
          <a:blip r:embed="rId1"/>
          <a:stretch/>
        </p:blipFill>
        <p:spPr>
          <a:xfrm>
            <a:off x="684360" y="3429000"/>
            <a:ext cx="39654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8637"/>
                </a:solidFill>
                <a:latin typeface="Century Schoolbook"/>
              </a:rPr>
              <a:t>9. EL SISTEMA RESPIRATORIO Y LA SALUD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Infecciones de l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vías respiratorias sup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resfriado común, grip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Infecciones de ví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respiratorias inferiore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bronquitis, neumoní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ronquitis crónica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debido al humo del tabaco se produce abundante mucosidad en las vías respiratorias, destruye los cilios que tapizan las vía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Cáncer de pulmón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crecimiento de células malignas en el pulmó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Relación entre el tabaco y cáncer de pulmón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2050920" y="3863880"/>
          <a:ext cx="65502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863880"/>
                    <a:ext cx="65502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5"/>
          <p:cNvSpPr/>
          <p:nvPr/>
        </p:nvSpPr>
        <p:spPr>
          <a:xfrm>
            <a:off x="6156360" y="616572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dad a la que se comenzó a f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755640" y="4076640"/>
            <a:ext cx="180036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erte por cáncer de pulm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or 100000 muer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e8637"/>
                </a:solidFill>
                <a:latin typeface="Century Schoolbook"/>
              </a:rPr>
              <a:t>10. LOS NUTRIENTES, FUENTE DE MATERIA Y ENER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2 CuadroTexto"/>
          <p:cNvSpPr/>
          <p:nvPr/>
        </p:nvSpPr>
        <p:spPr>
          <a:xfrm>
            <a:off x="468360" y="1484280"/>
            <a:ext cx="75596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SE CONSTRUYEN NUEVAS 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Fabrican sus propios materiales para crecer, dividirse y dar nuev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Fabrican sus propios materiales para renovar sus propias estruct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2. SON LOS COMBUSTIBLES 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a respiración celular se produce en las mitocondrias. Procesos que ocurren con la gluc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Consumo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iberación de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roducción de CO2 y H2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os lípidos y proteínas también son u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Los nutrientes son los combustibles de los cuales la célula obtiene  energía para hacer sus funciones vi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Century Schoolbook"/>
              </a:rPr>
              <a:t>1. LOS ALIMENTOS Y SUS COMPONENT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: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roductos (naturales o elaborados) que proporcionan sustancias necesarias para que nuestras células vivan. Los constituy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stancias inorgánicas: agua, sales minera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stancias orgánicas: glúcidos, lípidos, proteínas y vitamin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MENTO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egún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imples: formados por un solo tipo de sustancias alimentici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mpuestos: integrados por diferentes sustancias alimentici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7" descr="alimentos-dieta-vegana"/>
          <p:cNvPicPr/>
          <p:nvPr/>
        </p:nvPicPr>
        <p:blipFill>
          <a:blip r:embed="rId1"/>
          <a:stretch/>
        </p:blipFill>
        <p:spPr>
          <a:xfrm>
            <a:off x="3635280" y="3789360"/>
            <a:ext cx="176868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50920" y="333360"/>
            <a:ext cx="8424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STANCIAS INORGÁN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án en la mate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va y no viv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gua: Más abundante, se desarrolla la vid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ales minerales: cloruros, carbonatos, fosfatos, sodio en huesos, lágrimas …en huesos (sólida) y en los líquidos del organismo (disueltas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23640" y="227628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STANCIAS ORGÁN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n exclusivas de l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eria viv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Glúcidos: azúcares. Función energética y estructur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encill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glucosa, malto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Complejo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almidón, celulosa (fibra alimentarí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ípidos: grasa, colesterol. Función energética y estructur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Insaturad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: (aceites) origen vegetal, liquidas a tª ambie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aturad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(sebos) origen animal, sólidas a tª ambie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roteínas: hemoglobina, gluten. Macromoléculas formadas por aminoácidos. Funciones divers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Vitaminas: imprescindibles pero que no podemos fabricar y debemos incorporarlas por la dieta para el correcto funcionamiento del organism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5"/>
          <p:cNvSpPr/>
          <p:nvPr/>
        </p:nvSpPr>
        <p:spPr>
          <a:xfrm>
            <a:off x="792000" y="189000"/>
            <a:ext cx="781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ancias sencillas procedentes de los alimentos que la células utilizan para realizar sus fun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503280" y="1268280"/>
          <a:ext cx="5400720" cy="244800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s inorgá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03280" y="3878280"/>
          <a:ext cx="8209080" cy="2359080"/>
        </p:xfrm>
        <a:graphic>
          <a:graphicData uri="http://schemas.openxmlformats.org/drawingml/2006/table">
            <a:tbl>
              <a:tblPr/>
              <a:tblGrid>
                <a:gridCol w="2711520"/>
                <a:gridCol w="2820960"/>
                <a:gridCol w="2676600"/>
              </a:tblGrid>
              <a:tr h="338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s orgá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1280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ar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128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id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3496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as o seb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cidos gr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349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á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012000" y="1268280"/>
          <a:ext cx="2700360" cy="244476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0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n ser lípidos o proteín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carencia provoca enferme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3" name="Picture 224" descr="moleculaagua"/>
          <p:cNvPicPr/>
          <p:nvPr/>
        </p:nvPicPr>
        <p:blipFill>
          <a:blip r:embed="rId1"/>
          <a:srcRect l="342" t="0" r="50017" b="44883"/>
          <a:stretch/>
        </p:blipFill>
        <p:spPr>
          <a:xfrm>
            <a:off x="1908000" y="1766880"/>
            <a:ext cx="1044720" cy="870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25" descr="salero"/>
          <p:cNvPicPr/>
          <p:nvPr/>
        </p:nvPicPr>
        <p:blipFill>
          <a:blip r:embed="rId2"/>
          <a:srcRect l="19349" t="3502" r="48184" b="3035"/>
          <a:stretch/>
        </p:blipFill>
        <p:spPr>
          <a:xfrm>
            <a:off x="3360600" y="2205000"/>
            <a:ext cx="779760" cy="1440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6" descr="moleculasal1"/>
          <p:cNvPicPr/>
          <p:nvPr/>
        </p:nvPicPr>
        <p:blipFill>
          <a:blip r:embed="rId3"/>
          <a:srcRect l="12497" t="0" r="6731" b="1371"/>
          <a:stretch/>
        </p:blipFill>
        <p:spPr>
          <a:xfrm>
            <a:off x="4643280" y="1665360"/>
            <a:ext cx="1116000" cy="10634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243"/>
          <p:cNvSpPr/>
          <p:nvPr/>
        </p:nvSpPr>
        <p:spPr>
          <a:xfrm>
            <a:off x="1655640" y="2744640"/>
            <a:ext cx="151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frutas, verduras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che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umo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44"/>
          <p:cNvSpPr/>
          <p:nvPr/>
        </p:nvSpPr>
        <p:spPr>
          <a:xfrm>
            <a:off x="4032360" y="277812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todos los alimentos, principalmente frutas y verdu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45" descr="lipidos"/>
          <p:cNvPicPr/>
          <p:nvPr/>
        </p:nvPicPr>
        <p:blipFill>
          <a:blip r:embed="rId4"/>
          <a:srcRect l="2049" t="1769" r="15484" b="1842"/>
          <a:stretch/>
        </p:blipFill>
        <p:spPr>
          <a:xfrm>
            <a:off x="3249720" y="4297320"/>
            <a:ext cx="1404720" cy="1903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46" descr="ScreenHunter_004"/>
          <p:cNvPicPr/>
          <p:nvPr/>
        </p:nvPicPr>
        <p:blipFill>
          <a:blip r:embed="rId5"/>
          <a:stretch/>
        </p:blipFill>
        <p:spPr>
          <a:xfrm>
            <a:off x="358920" y="4257720"/>
            <a:ext cx="171756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47" descr="proteinas"/>
          <p:cNvPicPr/>
          <p:nvPr/>
        </p:nvPicPr>
        <p:blipFill>
          <a:blip r:embed="rId6"/>
          <a:srcRect l="2115" t="0" r="1611" b="1831"/>
          <a:stretch/>
        </p:blipFill>
        <p:spPr>
          <a:xfrm>
            <a:off x="6076800" y="4292640"/>
            <a:ext cx="1374840" cy="1873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250"/>
          <p:cNvSpPr/>
          <p:nvPr/>
        </p:nvSpPr>
        <p:spPr>
          <a:xfrm>
            <a:off x="1835280" y="551664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patatas, legumbres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real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1"/>
          <p:cNvSpPr/>
          <p:nvPr/>
        </p:nvSpPr>
        <p:spPr>
          <a:xfrm>
            <a:off x="4643280" y="54817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aceit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ocino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tec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54"/>
          <p:cNvSpPr/>
          <p:nvPr/>
        </p:nvSpPr>
        <p:spPr>
          <a:xfrm>
            <a:off x="7308720" y="509256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carne, pescado, huevo, leche, cereales, legumbr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58" descr="manzana2"/>
          <p:cNvPicPr/>
          <p:nvPr/>
        </p:nvPicPr>
        <p:blipFill>
          <a:blip r:embed="rId7"/>
          <a:srcRect l="42164" t="38474" r="18993" b="8006"/>
          <a:stretch/>
        </p:blipFill>
        <p:spPr>
          <a:xfrm rot="955200">
            <a:off x="464760" y="2630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3" descr="sandia"/>
          <p:cNvPicPr/>
          <p:nvPr/>
        </p:nvPicPr>
        <p:blipFill>
          <a:blip r:embed="rId8"/>
          <a:srcRect l="6595" t="0" r="56453" b="59860"/>
          <a:stretch/>
        </p:blipFill>
        <p:spPr>
          <a:xfrm>
            <a:off x="503280" y="2579760"/>
            <a:ext cx="1440000" cy="1173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57" descr="tomate"/>
          <p:cNvPicPr/>
          <p:nvPr/>
        </p:nvPicPr>
        <p:blipFill>
          <a:blip r:embed="rId9"/>
          <a:srcRect l="0" t="0" r="15089" b="0"/>
          <a:stretch/>
        </p:blipFill>
        <p:spPr>
          <a:xfrm rot="20123400">
            <a:off x="1332000" y="3085920"/>
            <a:ext cx="684000" cy="630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59"/>
          <p:cNvSpPr/>
          <p:nvPr/>
        </p:nvSpPr>
        <p:spPr>
          <a:xfrm>
            <a:off x="7201080" y="3222720"/>
            <a:ext cx="14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frutas,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rdur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60" descr="fruta"/>
          <p:cNvPicPr/>
          <p:nvPr/>
        </p:nvPicPr>
        <p:blipFill>
          <a:blip r:embed="rId10"/>
          <a:srcRect l="14124" t="7619" r="13203" b="6682"/>
          <a:stretch/>
        </p:blipFill>
        <p:spPr>
          <a:xfrm>
            <a:off x="6022800" y="2257560"/>
            <a:ext cx="1619280" cy="14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2. EL SISTEMA DIGESTIV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istema digestivo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lo forma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ubo diges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s glándulas diges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funció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transformar el alimento en </a:t>
            </a:r>
            <a:r>
              <a:rPr b="0" lang="es-ES" sz="2800" spc="-1" strike="noStrike">
                <a:solidFill>
                  <a:srgbClr val="ff9900"/>
                </a:solidFill>
                <a:latin typeface="Century Schoolbook"/>
              </a:rPr>
              <a:t>nutrientes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que puedan ser utilizados por nuestras célula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1" name="Picture 4" descr="aparato-digestivo-anatomia-humana931"/>
          <p:cNvPicPr/>
          <p:nvPr/>
        </p:nvPicPr>
        <p:blipFill>
          <a:blip r:embed="rId1"/>
          <a:stretch/>
        </p:blipFill>
        <p:spPr>
          <a:xfrm>
            <a:off x="2700360" y="2205000"/>
            <a:ext cx="3600360" cy="27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49952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591840"/>
            <a:ext cx="5364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Boca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abertura con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Dientes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formados por dentina, esmalte y la pulp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Lengua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formada por músculos y receptores del sentido del gust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Faringe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cavidad </a:t>
            </a:r>
            <a:r>
              <a:rPr b="0" lang="es-ES" sz="1600" spc="-1" strike="noStrike">
                <a:solidFill>
                  <a:srgbClr val="ff3300"/>
                </a:solidFill>
                <a:latin typeface="Century Schoolbook"/>
              </a:rPr>
              <a:t>común al sistema digestivo y al respiratori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limento va desde la boca hacia el esófag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ire va desde la nariz o boca hacia la laring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sófag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conducto por donde el alimento avanza desde la faringe al estómag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Estómago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: ensanchamiento del tubo digestivo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La válvula de entrada por donde llega el alimento desde el esófago se llama </a:t>
            </a: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ardias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 y la de salida al intestino </a:t>
            </a: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Pílor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Sus paredes poseen músculos potentes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Intestino Delgad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tubo largo que comunica estómago e Intestino Grueso. Partes: Duodeno, yeyuno e ile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Intestino Grueso: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 conducto grueso en forma de U con tres partes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iego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unión con el Intestino delgado, hay un apéndic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entury Schoolbook"/>
              </a:rPr>
              <a:t>Recto</a:t>
            </a: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: comunica el colon con el exterior. An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6" descr="sistemadigestivo"/>
          <p:cNvPicPr/>
          <p:nvPr/>
        </p:nvPicPr>
        <p:blipFill>
          <a:blip r:embed="rId1"/>
          <a:stretch/>
        </p:blipFill>
        <p:spPr>
          <a:xfrm>
            <a:off x="5292720" y="907920"/>
            <a:ext cx="3649680" cy="5545440"/>
          </a:xfrm>
          <a:prstGeom prst="rect">
            <a:avLst/>
          </a:prstGeom>
          <a:ln w="0">
            <a:noFill/>
          </a:ln>
        </p:spPr>
      </p:pic>
      <p:sp>
        <p:nvSpPr>
          <p:cNvPr id="475" name="6 CuadroTexto"/>
          <p:cNvSpPr/>
          <p:nvPr/>
        </p:nvSpPr>
        <p:spPr>
          <a:xfrm>
            <a:off x="104292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TES DEL TUBO DIGESTIVO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Century Schoolbook"/>
              </a:rPr>
              <a:t>LAS GLÁNDULAS DEL SISTEMA DIGESTIVO</a:t>
            </a:r>
            <a:r>
              <a:rPr b="1" lang="es-ES" sz="25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Órganos encargados de producir los jugos digestivos (líquidos con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zim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y verterlos al tubo diges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zim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son proteínas que aceleran la </a:t>
            </a:r>
            <a:r>
              <a:rPr b="0" lang="es-ES" sz="2400" spc="-1" strike="noStrike">
                <a:solidFill>
                  <a:srgbClr val="ff9900"/>
                </a:solidFill>
                <a:latin typeface="Century Schoolbook"/>
              </a:rPr>
              <a:t>descomposi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de las sustancias complejas de los alimentos en sus componentes más sencillos (nutrien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ay dos tipos de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lándulas digestiva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epartidas por las paredes del tubo digestiv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(Gástricas, Intestinal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Fuera del tubo digestivo: Glándulas anej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Glándulas Salivale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n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Páncrea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n el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jugo pancreático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q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ierte al duodeno. También produce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insulin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(hormona que regula la glucosa en sangre y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que vierte a la sangr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Century Schoolbook"/>
              </a:rPr>
              <a:t>Hígado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produce la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bili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que se almacena en la vesícula biliar y vierte al duodeno cuando tiene alimentos ricos en grasa. Emulsiona las grasas para facilitar la acción de los jugos intestinal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También almacena glúcidos, hierro… y elimina sustancias tóxic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8" name="Picture 5" descr="Higado_pancreas728"/>
          <p:cNvPicPr/>
          <p:nvPr/>
        </p:nvPicPr>
        <p:blipFill>
          <a:blip r:embed="rId1"/>
          <a:stretch/>
        </p:blipFill>
        <p:spPr>
          <a:xfrm>
            <a:off x="6588000" y="3735360"/>
            <a:ext cx="2376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4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"/>
          <p:cNvSpPr/>
          <p:nvPr/>
        </p:nvSpPr>
        <p:spPr>
          <a:xfrm>
            <a:off x="6156360" y="1268280"/>
            <a:ext cx="2087640" cy="3565800"/>
          </a:xfrm>
          <a:prstGeom prst="rect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3"/>
          <p:cNvSpPr/>
          <p:nvPr/>
        </p:nvSpPr>
        <p:spPr>
          <a:xfrm>
            <a:off x="934920" y="1268280"/>
            <a:ext cx="2303640" cy="50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tomía del aparato dige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82" descr="826630Unidad03_Página_04_Imagen_0001"/>
          <p:cNvPicPr/>
          <p:nvPr/>
        </p:nvPicPr>
        <p:blipFill>
          <a:blip r:embed="rId1"/>
          <a:srcRect l="0" t="1908" r="0" b="2691"/>
          <a:stretch/>
        </p:blipFill>
        <p:spPr>
          <a:xfrm>
            <a:off x="3132000" y="1015920"/>
            <a:ext cx="2965680" cy="5219640"/>
          </a:xfrm>
          <a:prstGeom prst="rect">
            <a:avLst/>
          </a:prstGeom>
          <a:ln w="0">
            <a:noFill/>
          </a:ln>
        </p:spPr>
      </p:pic>
      <p:sp>
        <p:nvSpPr>
          <p:cNvPr id="483" name="Line 84"/>
          <p:cNvSpPr/>
          <p:nvPr/>
        </p:nvSpPr>
        <p:spPr>
          <a:xfrm>
            <a:off x="3203640" y="1628640"/>
            <a:ext cx="118908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6"/>
          <p:cNvSpPr/>
          <p:nvPr/>
        </p:nvSpPr>
        <p:spPr>
          <a:xfrm flipV="1">
            <a:off x="3166920" y="2852640"/>
            <a:ext cx="154944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8"/>
          <p:cNvSpPr/>
          <p:nvPr/>
        </p:nvSpPr>
        <p:spPr>
          <a:xfrm>
            <a:off x="3203640" y="3681360"/>
            <a:ext cx="1836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0"/>
          <p:cNvSpPr/>
          <p:nvPr/>
        </p:nvSpPr>
        <p:spPr>
          <a:xfrm>
            <a:off x="3166920" y="4724280"/>
            <a:ext cx="1260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2"/>
          <p:cNvSpPr/>
          <p:nvPr/>
        </p:nvSpPr>
        <p:spPr>
          <a:xfrm flipV="1">
            <a:off x="3166920" y="5157360"/>
            <a:ext cx="82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4"/>
          <p:cNvSpPr/>
          <p:nvPr/>
        </p:nvSpPr>
        <p:spPr>
          <a:xfrm>
            <a:off x="934920" y="2103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Tubo dige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6"/>
          <p:cNvSpPr/>
          <p:nvPr/>
        </p:nvSpPr>
        <p:spPr>
          <a:xfrm flipV="1">
            <a:off x="3203640" y="2097000"/>
            <a:ext cx="15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8"/>
          <p:cNvSpPr/>
          <p:nvPr/>
        </p:nvSpPr>
        <p:spPr>
          <a:xfrm flipH="1">
            <a:off x="4787640" y="1557360"/>
            <a:ext cx="143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9"/>
          <p:cNvSpPr/>
          <p:nvPr/>
        </p:nvSpPr>
        <p:spPr>
          <a:xfrm flipH="1" flipV="1">
            <a:off x="4679640" y="3645000"/>
            <a:ext cx="154764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1"/>
          <p:cNvSpPr/>
          <p:nvPr/>
        </p:nvSpPr>
        <p:spPr>
          <a:xfrm flipH="1" flipV="1">
            <a:off x="4680000" y="4292280"/>
            <a:ext cx="15127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4"/>
          <p:cNvSpPr/>
          <p:nvPr/>
        </p:nvSpPr>
        <p:spPr>
          <a:xfrm>
            <a:off x="6840360" y="24573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cffb9"/>
                </a:solidFill>
                <a:latin typeface="Arial"/>
              </a:rPr>
              <a:t>Glándulas 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7"/>
          <p:cNvSpPr/>
          <p:nvPr/>
        </p:nvSpPr>
        <p:spPr>
          <a:xfrm>
            <a:off x="6191280" y="1317600"/>
            <a:ext cx="183672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ándulas saliv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ót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maxi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ling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0"/>
          <p:cNvSpPr/>
          <p:nvPr/>
        </p:nvSpPr>
        <p:spPr>
          <a:xfrm>
            <a:off x="6192720" y="3513240"/>
            <a:ext cx="1836720" cy="6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íg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sícula b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2"/>
          <p:cNvSpPr/>
          <p:nvPr/>
        </p:nvSpPr>
        <p:spPr>
          <a:xfrm>
            <a:off x="6192720" y="4268880"/>
            <a:ext cx="183672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ánc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go pancre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3"/>
          <p:cNvSpPr/>
          <p:nvPr/>
        </p:nvSpPr>
        <p:spPr>
          <a:xfrm>
            <a:off x="2303640" y="1312920"/>
            <a:ext cx="900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5"/>
          <p:cNvSpPr/>
          <p:nvPr/>
        </p:nvSpPr>
        <p:spPr>
          <a:xfrm>
            <a:off x="2303640" y="2771640"/>
            <a:ext cx="900000" cy="26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7"/>
          <p:cNvSpPr/>
          <p:nvPr/>
        </p:nvSpPr>
        <p:spPr>
          <a:xfrm>
            <a:off x="1727280" y="3216240"/>
            <a:ext cx="147636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dias (entr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íloro (sal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go gás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9"/>
          <p:cNvSpPr/>
          <p:nvPr/>
        </p:nvSpPr>
        <p:spPr>
          <a:xfrm>
            <a:off x="1008000" y="4248000"/>
            <a:ext cx="2158920" cy="91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llosidades intesti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s regiones: duodeno, yeyuno e ile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1"/>
          <p:cNvSpPr/>
          <p:nvPr/>
        </p:nvSpPr>
        <p:spPr>
          <a:xfrm>
            <a:off x="1008000" y="5337000"/>
            <a:ext cx="2158920" cy="9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o y apéndice vermifo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s regiones: ciego, colon y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5"/>
          <p:cNvSpPr/>
          <p:nvPr/>
        </p:nvSpPr>
        <p:spPr>
          <a:xfrm>
            <a:off x="2303640" y="2143080"/>
            <a:ext cx="9000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ri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piglo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entury Schoolbook"/>
              </a:rPr>
              <a:t>3. EL PROCESO DE LA DIGESTIÓ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50560" y="1483920"/>
            <a:ext cx="403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Mecánica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acciones </a:t>
            </a: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física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que reducen el tamaño de las partículas y las hace avanzar a lo largo del tub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Triturado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(dient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eglución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(paso de alimento de la boca a la faring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Movimiento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(contracción de los músculos de la pared del tubo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e </a:t>
            </a: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mezcla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mezclan las partículas de alimento con los jug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Schoolbook"/>
              </a:rPr>
              <a:t>Peristálticos: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 avanza el alimento por el tub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284360" y="1483920"/>
            <a:ext cx="4390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Química: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Century Schoolbook"/>
              </a:rPr>
              <a:t>transformación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 de macromoléculas en nutrientes (pequeñas moléculas solubles) Ayudado por las </a:t>
            </a:r>
            <a:r>
              <a:rPr b="0" lang="es-ES" sz="2000" spc="-1" strike="noStrike">
                <a:solidFill>
                  <a:srgbClr val="ff9900"/>
                </a:solidFill>
                <a:latin typeface="Century Schoolbook"/>
              </a:rPr>
              <a:t>enzima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En la boca; saliva y enzima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</a:rPr>
              <a:t>AMILASA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→ inicia digestión d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glúcidos y el almidón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se transforma en azúcares más sencill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el estómago; jugo gástrico (con ac. Clorhídrico y la enzima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PEPSIN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→ inicia digestión de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proteínas 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a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n el intestino delgado; jugos pancreáticos, glándulas intestinales y enzimas (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LIPASA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→ descompone las </a:t>
            </a:r>
            <a:r>
              <a:rPr b="0" lang="es-ES" sz="1800" spc="-1" strike="noStrike">
                <a:solidFill>
                  <a:srgbClr val="ff9900"/>
                </a:solidFill>
                <a:latin typeface="Century Schoolbook"/>
                <a:ea typeface="Arial"/>
              </a:rPr>
              <a:t>grasas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95280" y="981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gest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formación de los alimentos a su paso por el tubo diges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0:46:38Z</dcterms:created>
  <dc:creator>BIO_GEOLO_3</dc:creator>
  <dc:description/>
  <dc:language>en-US</dc:language>
  <cp:lastModifiedBy>Centor</cp:lastModifiedBy>
  <dcterms:modified xsi:type="dcterms:W3CDTF">2015-12-29T13:42:54Z</dcterms:modified>
  <cp:revision>81</cp:revision>
  <dc:subject/>
  <dc:title>TEMA 2: DIETA Y ALIMENTOS:</dc:title>
</cp:coreProperties>
</file>